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D666-FBA6-4073-A306-A92FAEBE4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2912-4AE4-4AD2-A3E3-73025B9EF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044D-C021-499A-BC46-693FFCEF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1E57-1987-464B-886C-72BBCEB8A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8C45-FF7F-43AD-B177-C3E0202C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C8F-8AE7-4C1D-8666-FA75ED42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B85-60E0-472B-8EDC-3E6702E2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E1D-3BA5-4543-8347-C277FA17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EED-5418-4478-9151-BA721B43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13FA-4A4C-4B9A-9E2D-12C160FD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66D3-52DB-4EE3-A500-F94533DE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F417-29C0-4FE1-8863-94AEFD36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B9F6-9635-40AC-A29B-714153CB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025D-17B9-451D-96C5-A6AC2F35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5668-E844-4C26-B49D-B66B40CB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7086-9F8C-4902-8114-1A78F675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933-3636-4037-A3E3-7BC7D255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281A-461C-4198-A8BB-514054F1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2014-1374-46FF-B87D-FD9D67C0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8AAC-C105-470C-9DB6-D6A5EF38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106D-2C57-497A-99C0-9D359FAE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987F-488F-4465-A611-0B345FFE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7F88-07A3-4AC0-86EF-460AA05A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F9B3-5FF2-4631-B695-6A1CCC60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5C6D-A0D8-445D-8FD6-65B4D092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671A-72B6-4663-A0E8-2231A522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A4D2-5DB5-47CD-B629-7CA27670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84F-7974-4F55-A519-12679964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9146-77E7-4F0F-9E33-5B9B8F72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FFCA-8319-4193-9ECF-2809DB7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F5ECE-11D6-4656-9884-A67094E2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2A2A-B5F3-470E-B065-CEF35824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B776-D1CB-4FFE-8ED2-23E3F47F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3875-0860-4AAC-A59E-674A42B3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BE2E-861F-455C-9C76-A44B5279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C45E-49EF-4FB0-9809-52C4FC8F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3FA70-0453-44A8-94C0-CE95B401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64DA-C330-42F5-8B6E-738E7B70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110-8C61-48C9-8ADA-58AB7AF5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2A1DD-D267-4D25-AE05-EFB0EFC6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97F8F-1AB2-4BCD-B9E7-8A8C09D7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74A50-9A3F-47EB-A767-8355DA76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2D49-F015-4066-A7F9-24C29CD3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C2831-E07B-4B9B-AEBE-E8C154B1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2FC5-FB47-48A3-9ECD-C836A66F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AB23B-BC38-4F35-9A7F-F326A8D3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C8A3B-58B5-4154-830B-6B99A64C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5B38B-DDE4-4720-84C0-65D7FAC9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312-9252-4A55-B13C-B8EE4057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E91-4C72-4738-9067-9DA8F0AB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BDA-8417-4995-9C5D-DDD00773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91B-47AA-43FB-8187-B4EF549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03D-B213-457D-BD32-890FF394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14C8-57D2-4FB1-93D8-E508B14B9FA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72FB-43C4-454E-A60A-F39D466B9DA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AE07-2254-4968-BAA3-D03C73F42E0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0304-EEFD-4FF8-9D77-3DF5C25A88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re you taking note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sign By Mckayla Johnsto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s to write an equation in standard form given two points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nd the slope, remember y’s on top and x’s on the bott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rite in point slope form, use the first poi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llow the rules for standard form to convert into standard for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 parenthe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 frac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 and Y on the left of the equ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needs to be positi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#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rite an equation in standard form given the following points, (1,1) and (3,2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sl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= 1/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 – 1 = ½(x – 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 a group work to write the same equation in standard fo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 – 2y = -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rite an equation in standard form given the following points, (2,0) and (-2,-14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sl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= 7/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 – 0 = 7/2(x – 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 a group work to write the same equation in standard fo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x – 2y = 1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12:18Z</dcterms:created>
  <dc:creator>Preferred Customer</dc:creator>
  <dc:description/>
  <dc:language>en-US</dc:language>
  <cp:lastModifiedBy>Floyd Stensrud</cp:lastModifiedBy>
  <dcterms:modified xsi:type="dcterms:W3CDTF">2009-01-26T13:53:37Z</dcterms:modified>
  <cp:revision>5</cp:revision>
  <dc:subject/>
  <dc:title>Starting with two points</dc:title>
</cp:coreProperties>
</file>